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63255"/>
        <c:axId val="26558312"/>
      </c:barChart>
      <c:catAx>
        <c:axId val="35563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58312"/>
        <c:crosses val="autoZero"/>
        <c:auto val="1"/>
        <c:lblAlgn val="ctr"/>
        <c:lblOffset val="100"/>
        <c:noMultiLvlLbl val="0"/>
      </c:catAx>
      <c:valAx>
        <c:axId val="26558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63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FB7-3EAC-490F-93BE-AA78DCE4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01B-7694-43B9-92D5-0091A975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7C5-AA72-4A2D-A3CD-B0409FDE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6E3-71A3-49F2-AEA9-7E4F3C4C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570-FA9A-4E98-B519-C1781C13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9A9-C999-4797-ADEF-AA9377E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DDC-AC31-4979-A036-EA7FDCB4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EED-F28B-49CD-8F5D-18FFE2BC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BBE-A17F-4FE3-9872-674346EA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A0F-C223-4F9D-A01B-40D57CF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C5A-5717-4CC4-B026-8AFEAD3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1EC-8B91-4E93-B4CF-37682D7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C70D1-9066-4697-947E-2271E9A4C7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